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883-77FA-4D3C-81B3-7E5C4D89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2204-2530-4A04-B965-CBD95CF6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0DA9-97AE-4821-98DE-237DCBD0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B83-B498-4A32-9268-022D5A4C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34FC0-A7B8-454F-95A9-24E6F2AF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FD971-FB1E-4992-A72B-9590CC9F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7D105-35CA-4BC4-AA23-CBFE6666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EE75D-8B59-47A0-927A-70978D4D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5827E-2AC9-4C17-84AB-0DE4306D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8C820-012C-46BB-8C9F-69914C5E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832B8-1414-40CD-A114-6D030A6E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8270-06B7-400D-ABB4-E4ED1FC7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66D48-C365-452D-AD39-EEB5D9C5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9351D-02CB-4057-BDA3-863C88D7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99124-3A06-4727-B19A-3EA06B9F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D0002-B51A-4ACD-9996-ECA1EA7B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93484-842B-4B42-B11B-DA9E19CD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B49CC-7855-498E-9AFC-0C985B57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716B0-4A51-4A23-9579-B4EA47A2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9C587-3011-490F-AFB0-FA20A865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2AE3A-F086-4B47-853F-CEA497BE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6D2E4-D4D1-4A7D-BBF3-409DA6B7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918D-DFF8-4EFE-8EF1-01FCEB94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BC1AB-29AC-45A6-AC40-0CA32221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8E615-B500-4EED-AADC-C4BBA02A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7836E-F783-49C2-8E1A-58F848F6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746BB-7511-4F09-AFA6-D08E1CA8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ED0B4-0F95-4D23-BE7E-8CC451AF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D06F0-1C82-45C3-BC11-6D67D1D5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A5BC5-7FE8-4E5D-B490-F963EA3A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A38B-86F8-4EDC-A5BB-0C95E715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4F2-CCE5-465F-A571-A8B766DE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A40-4B0D-49DF-A1B4-BF015E5B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BE24-08F2-4AEE-85B1-52D28919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BD1-4528-4817-A3A6-FE30569F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7309-7B9F-4B01-AC4F-693CDF9D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6D17-0FD2-4B2D-980F-96B1CED5E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FA26-D700-4295-B8DB-C94EA352E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9267-A7A1-4279-B731-96EDF189F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18920" y="401760"/>
            <a:ext cx="6956280" cy="11937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Tahoma"/>
              </a:rPr>
              <a:t>globalizzazio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79640" y="1700280"/>
            <a:ext cx="51116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050920" y="1844640"/>
            <a:ext cx="26622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obalizz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095000">
            <a:off x="0" y="692280"/>
            <a:ext cx="2411280" cy="1224000"/>
          </a:xfrm>
          <a:prstGeom prst="rightArrow">
            <a:avLst>
              <a:gd name="adj1" fmla="val 50000"/>
              <a:gd name="adj2" fmla="val 4925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igliora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ezzi di traspor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9648800">
            <a:off x="0" y="3284280"/>
            <a:ext cx="3059280" cy="1152360"/>
          </a:xfrm>
          <a:prstGeom prst="rightArrow">
            <a:avLst>
              <a:gd name="adj1" fmla="val 50000"/>
              <a:gd name="adj2" fmla="val 6637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Migliora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mezzi di comunic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716360" y="126792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2924280"/>
            <a:ext cx="503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189000"/>
            <a:ext cx="2448000" cy="71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iduzione  distan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84720" y="620640"/>
            <a:ext cx="2305080" cy="792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ili di vita simi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2565360"/>
            <a:ext cx="935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2637000"/>
            <a:ext cx="288108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bera circolazioni mer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492360" y="1125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08360" y="4292640"/>
            <a:ext cx="309564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bera circolazione di pers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651640" y="4941720"/>
            <a:ext cx="71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19640" y="5445000"/>
            <a:ext cx="4392360" cy="64800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migrazione e città multietni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42:58Z</dcterms:created>
  <dc:creator>studente</dc:creator>
  <dc:description/>
  <dc:language>en-US</dc:language>
  <cp:lastModifiedBy>studente</cp:lastModifiedBy>
  <dcterms:modified xsi:type="dcterms:W3CDTF">2016-11-21T10:31:18Z</dcterms:modified>
  <cp:revision>6</cp:revision>
  <dc:subject/>
  <dc:title>Diapositiva 1</dc:title>
</cp:coreProperties>
</file>